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D63-79D9-490D-B747-637F3C66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DD9-F26B-4C15-B9B5-00953A43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274-16A1-4D3E-8B56-6D096D9C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D0D-037F-449E-BD74-5C261A26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E71-7BA6-4D75-B191-BB7E1ED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007-504A-476C-B104-932B63B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FB7-0A0B-44FC-958A-93EA290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F6E-4CF2-44F7-B3FC-B90B6DEC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8DB-B6CA-4A6D-BAAA-730CC016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3C6-5D0A-4AF6-80B0-E17F0C8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652-31E3-41AD-BFD7-C0F75035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CA7-E2D0-4802-AC88-7D8DA483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06B5-EF31-4A9C-BA8A-EBAC0AD1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arod_uses_film/2757094669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arod_uses_film/2750741699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ohanphillips/212962613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29051967@N03/2846274202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oosfotos/125601830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9755788@N08/3022638387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484280"/>
            <a:ext cx="8352000" cy="41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pairs, tell each other what you like and dislike doing in your fre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te gusta hacer en tu tiempo lib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 ejemplo: Me encanta l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gimnas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6/17  Olympic Gymnastics - Balance Beam by Jarod_Uses_Fi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754200"/>
            <a:ext cx="4878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nataci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4/17  Olympic Swimming by Jarod_Uses_Fi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616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equitaci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Horseriding in Hua Hin Thailand by rollontravel"/>
          <p:cNvPicPr/>
          <p:nvPr/>
        </p:nvPicPr>
        <p:blipFill>
          <a:blip r:embed="rId1"/>
          <a:stretch/>
        </p:blipFill>
        <p:spPr>
          <a:xfrm>
            <a:off x="212400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esqu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December 9th: Skiing Elf by hober"/>
          <p:cNvPicPr/>
          <p:nvPr/>
        </p:nvPicPr>
        <p:blipFill>
          <a:blip r:embed="rId1"/>
          <a:stretch/>
        </p:blipFill>
        <p:spPr>
          <a:xfrm>
            <a:off x="2771640" y="18900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atlet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Athletics - 4x100m relay by 713 Avenue"/>
          <p:cNvPicPr/>
          <p:nvPr/>
        </p:nvPicPr>
        <p:blipFill>
          <a:blip r:embed="rId1"/>
          <a:stretch/>
        </p:blipFill>
        <p:spPr>
          <a:xfrm>
            <a:off x="1476360" y="260280"/>
            <a:ext cx="5543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cicl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LEGO Tandam - By Bobasonic 2005 by Bobasonic"/>
          <p:cNvPicPr/>
          <p:nvPr/>
        </p:nvPicPr>
        <p:blipFill>
          <a:blip r:embed="rId1"/>
          <a:stretch/>
        </p:blipFill>
        <p:spPr>
          <a:xfrm>
            <a:off x="183528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89000"/>
            <a:ext cx="7921440" cy="61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Los deporte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these down in 3 colum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(sport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 gusta / me da igual / no me gu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balonman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hand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balonces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basket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fútbo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foot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tení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ten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rugb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rug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gimnasi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do gy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esqu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ski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natació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swi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equitació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horse ri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acticar el piragüism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o go canoe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atletism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do athle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ciclism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cyc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try writing at least 3 phrases for your opinions of spor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 encanta jugar al fút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dep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saying what leisure activities you enjoy or dis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2 sports and the KEY difference between 2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dep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f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út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Football - Men DSC_0063 by MonteCristo Pictures"/>
          <p:cNvPicPr/>
          <p:nvPr/>
        </p:nvPicPr>
        <p:blipFill>
          <a:blip r:embed="rId1"/>
          <a:stretch/>
        </p:blipFill>
        <p:spPr>
          <a:xfrm>
            <a:off x="1763640" y="260280"/>
            <a:ext cx="55450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balonces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rach basketball portrait 1 by Rohan Phill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3336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 al balonma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ten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Unused tennis balls by DaDa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477720"/>
            <a:ext cx="50943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rug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Rugby Ball by Ms. Soccer_Ro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33360"/>
            <a:ext cx="280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pirag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ü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raguismo by Kurtney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7:07:11Z</dcterms:created>
  <dc:creator>Owner1</dc:creator>
  <dc:description/>
  <dc:language>en-US</dc:language>
  <cp:lastModifiedBy>Owner1</cp:lastModifiedBy>
  <dcterms:modified xsi:type="dcterms:W3CDTF">2008-12-16T19:43:49Z</dcterms:modified>
  <cp:revision>2</cp:revision>
  <dc:subject/>
  <dc:title>Slide 1</dc:title>
</cp:coreProperties>
</file>